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8BE7-E252-41A4-9546-F43C1C29AE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F205AC-49C3-4817-99BD-E74FE748EE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00DC-E578-454B-9288-3A83B8FE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F41-10DA-43F0-BCED-DCE11FAC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58C-ADC2-4FC2-99E4-F1A6250E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879A-C3CA-42BF-9D56-882AEABA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2363-5C53-46C5-B19C-6DAB016C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E11B-B7BE-49DA-8907-5849D8CB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FB1-93ED-4FE2-B123-30C33DC0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5DB-5491-44EA-92B9-51942010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2F4-E1B6-49C8-A2E4-BF891241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7F35-02C3-479A-8F1F-CD3B4CAE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9A2-0BF6-4283-AE48-94962937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DDE-7CF8-4456-AB0B-B75B6356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35D9-14FB-4F4D-ADB6-8C8FCFF99F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000160" y="290520"/>
            <a:ext cx="5143680" cy="627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 rot="20844600">
            <a:off x="3048120" y="4419360"/>
            <a:ext cx="133344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ервы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141575_1"/>
          <p:cNvPicPr/>
          <p:nvPr/>
        </p:nvPicPr>
        <p:blipFill>
          <a:blip r:embed="rId1"/>
          <a:stretch/>
        </p:blipFill>
        <p:spPr>
          <a:xfrm rot="445800">
            <a:off x="178920" y="141300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6"/>
          <p:cNvSpPr/>
          <p:nvPr/>
        </p:nvSpPr>
        <p:spPr>
          <a:xfrm>
            <a:off x="2556000" y="2781360"/>
            <a:ext cx="5184720" cy="3240000"/>
          </a:xfrm>
          <a:prstGeom prst="wedgeEllipseCallout">
            <a:avLst>
              <a:gd name="adj1" fmla="val -62004"/>
              <a:gd name="adj2" fmla="val -3956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ложения в тексте связаны по смысл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торо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141575_1"/>
          <p:cNvPicPr/>
          <p:nvPr/>
        </p:nvPicPr>
        <p:blipFill>
          <a:blip r:embed="rId1"/>
          <a:stretch/>
        </p:blipFill>
        <p:spPr>
          <a:xfrm rot="376200">
            <a:off x="323640" y="1341000"/>
            <a:ext cx="2376360" cy="2376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5"/>
          <p:cNvSpPr/>
          <p:nvPr/>
        </p:nvSpPr>
        <p:spPr>
          <a:xfrm>
            <a:off x="2843280" y="2924280"/>
            <a:ext cx="5329080" cy="3384360"/>
          </a:xfrm>
          <a:prstGeom prst="wedgeEllipseCallout">
            <a:avLst>
              <a:gd name="adj1" fmla="val -65310"/>
              <a:gd name="adj2" fmla="val -5145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ложения в тексте расположены 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Третий признак тек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141575_1"/>
          <p:cNvPicPr/>
          <p:nvPr/>
        </p:nvPicPr>
        <p:blipFill>
          <a:blip r:embed="rId1"/>
          <a:stretch/>
        </p:blipFill>
        <p:spPr>
          <a:xfrm rot="376200">
            <a:off x="337680" y="106956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5"/>
          <p:cNvSpPr/>
          <p:nvPr/>
        </p:nvSpPr>
        <p:spPr>
          <a:xfrm>
            <a:off x="2771640" y="3141720"/>
            <a:ext cx="5472360" cy="3095640"/>
          </a:xfrm>
          <a:prstGeom prst="wedgeEllipseCallout">
            <a:avLst>
              <a:gd name="adj1" fmla="val -60935"/>
              <a:gd name="adj2" fmla="val -5481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кст имеет тему, основную мысль, его можно озаглав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080" y="713880"/>
            <a:ext cx="911556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Яркие признаки текста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4"/>
          <p:cNvSpPr/>
          <p:nvPr/>
        </p:nvSpPr>
        <p:spPr>
          <a:xfrm>
            <a:off x="4211640" y="3645000"/>
            <a:ext cx="122400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16"/>
          <p:cNvSpPr/>
          <p:nvPr/>
        </p:nvSpPr>
        <p:spPr>
          <a:xfrm rot="21352200">
            <a:off x="3860280" y="1330200"/>
            <a:ext cx="1297080" cy="21178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17"/>
          <p:cNvSpPr/>
          <p:nvPr/>
        </p:nvSpPr>
        <p:spPr>
          <a:xfrm rot="2930400">
            <a:off x="5477040" y="1581840"/>
            <a:ext cx="1563840" cy="25462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18"/>
          <p:cNvSpPr/>
          <p:nvPr/>
        </p:nvSpPr>
        <p:spPr>
          <a:xfrm rot="19702200">
            <a:off x="4673160" y="4925520"/>
            <a:ext cx="1629000" cy="193860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19"/>
          <p:cNvSpPr/>
          <p:nvPr/>
        </p:nvSpPr>
        <p:spPr>
          <a:xfrm rot="2501400">
            <a:off x="2515680" y="4640400"/>
            <a:ext cx="1544760" cy="23889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20"/>
          <p:cNvSpPr/>
          <p:nvPr/>
        </p:nvSpPr>
        <p:spPr>
          <a:xfrm rot="17082600">
            <a:off x="5966280" y="3444120"/>
            <a:ext cx="1379520" cy="23241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21"/>
          <p:cNvSpPr/>
          <p:nvPr/>
        </p:nvSpPr>
        <p:spPr>
          <a:xfrm rot="17652000">
            <a:off x="1763640" y="2031480"/>
            <a:ext cx="1901880" cy="259092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22"/>
          <p:cNvSpPr/>
          <p:nvPr/>
        </p:nvSpPr>
        <p:spPr>
          <a:xfrm>
            <a:off x="3786120" y="3429000"/>
            <a:ext cx="1714680" cy="1714680"/>
          </a:xfrm>
          <a:prstGeom prst="ellipse">
            <a:avLst/>
          </a:prstGeom>
          <a:solidFill>
            <a:srgbClr val="e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WordArt 25"/>
          <p:cNvSpPr txBox="1"/>
          <p:nvPr/>
        </p:nvSpPr>
        <p:spPr>
          <a:xfrm>
            <a:off x="4000680" y="3645000"/>
            <a:ext cx="1365120" cy="158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446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Text Box 26"/>
          <p:cNvSpPr/>
          <p:nvPr/>
        </p:nvSpPr>
        <p:spPr>
          <a:xfrm rot="15813600">
            <a:off x="3198960" y="18136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голов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28"/>
          <p:cNvSpPr/>
          <p:nvPr/>
        </p:nvSpPr>
        <p:spPr>
          <a:xfrm rot="18823200">
            <a:off x="5132520" y="1976400"/>
            <a:ext cx="226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Абза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расная ст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29"/>
          <p:cNvSpPr/>
          <p:nvPr/>
        </p:nvSpPr>
        <p:spPr>
          <a:xfrm rot="854400">
            <a:off x="5576760" y="4308480"/>
            <a:ext cx="26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Концов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0"/>
          <p:cNvSpPr/>
          <p:nvPr/>
        </p:nvSpPr>
        <p:spPr>
          <a:xfrm rot="3678600">
            <a:off x="4682880" y="5617440"/>
            <a:ext cx="1576440" cy="9169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Calibri"/>
              </a:rPr>
              <a:t>Основная </a:t>
            </a: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мыс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1"/>
          <p:cNvSpPr/>
          <p:nvPr/>
        </p:nvSpPr>
        <p:spPr>
          <a:xfrm rot="18489000">
            <a:off x="2264400" y="52146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Calibri"/>
              </a:rPr>
              <a:t>Нача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32"/>
          <p:cNvSpPr/>
          <p:nvPr/>
        </p:nvSpPr>
        <p:spPr>
          <a:xfrm rot="1380600">
            <a:off x="1732680" y="2776680"/>
            <a:ext cx="18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Серед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33"/>
          <p:cNvSpPr/>
          <p:nvPr/>
        </p:nvSpPr>
        <p:spPr>
          <a:xfrm flipV="1" rot="10800000">
            <a:off x="4071600" y="3957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0707"/>
                </a:solidFill>
                <a:latin typeface="Calibri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Что называется текст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141575_1"/>
          <p:cNvPicPr/>
          <p:nvPr/>
        </p:nvPicPr>
        <p:blipFill>
          <a:blip r:embed="rId1"/>
          <a:stretch/>
        </p:blipFill>
        <p:spPr>
          <a:xfrm rot="376200">
            <a:off x="-180720" y="4437000"/>
            <a:ext cx="2610000" cy="2610000"/>
          </a:xfrm>
          <a:prstGeom prst="rect">
            <a:avLst/>
          </a:prstGeom>
          <a:ln w="0">
            <a:noFill/>
          </a:ln>
        </p:spPr>
      </p:pic>
      <p:sp>
        <p:nvSpPr>
          <p:cNvPr id="81" name="PubOvalCallout"/>
          <p:cNvSpPr/>
          <p:nvPr/>
        </p:nvSpPr>
        <p:spPr>
          <a:xfrm>
            <a:off x="2021040" y="1482840"/>
            <a:ext cx="6500520" cy="4838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кст – это сочетание предложений, связанных по смыслу и грамматически, расположенных в определённом порядке, имеющих тему и основную мысл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581280" cy="4190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457200" y="6858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пасибо, ребята, за наук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50:50Z</dcterms:created>
  <dc:creator>Customer</dc:creator>
  <dc:description/>
  <dc:language>en-US</dc:language>
  <cp:lastModifiedBy>Customer</cp:lastModifiedBy>
  <dcterms:modified xsi:type="dcterms:W3CDTF">2001-12-31T19:30:06Z</dcterms:modified>
  <cp:revision>4</cp:revision>
  <dc:subject/>
  <dc:title>Слайд 1</dc:title>
</cp:coreProperties>
</file>